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0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7.jpeg" ContentType="image/jpeg"/>
  <Override PartName="/ppt/media/image34.jpeg" ContentType="image/jpeg"/>
  <Override PartName="/ppt/media/image30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media/image27.png" ContentType="image/png"/>
  <Override PartName="/ppt/media/image33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4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5.jpeg" ContentType="image/jpeg"/>
  <Override PartName="/ppt/media/image63.wmf" ContentType="image/x-wmf"/>
  <Override PartName="/ppt/media/image76.jpeg" ContentType="image/jpeg"/>
  <Override PartName="/ppt/media/image75.jpeg" ContentType="image/jpeg"/>
  <Override PartName="/ppt/media/image74.wmf" ContentType="image/x-wmf"/>
  <Override PartName="/ppt/media/image32.jpeg" ContentType="image/jpeg"/>
  <Override PartName="/ppt/media/image70.jpeg" ContentType="image/jpeg"/>
  <Override PartName="/ppt/media/image65.jpeg" ContentType="image/jpeg"/>
  <Override PartName="/ppt/media/image26.png" ContentType="image/png"/>
  <Override PartName="/ppt/media/image8.jpeg" ContentType="image/jpeg"/>
  <Override PartName="/ppt/media/image17.png" ContentType="image/png"/>
  <Override PartName="/ppt/media/image3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6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3.png" ContentType="image/png"/>
  <Override PartName="/ppt/media/image6.jpeg" ContentType="image/jpeg"/>
  <Override PartName="/ppt/media/image51.jpeg" ContentType="image/jpeg"/>
  <Override PartName="/ppt/media/image25.jpeg" ContentType="image/jpeg"/>
  <Override PartName="/ppt/media/image56.jpeg" ContentType="image/jpeg"/>
  <Override PartName="/ppt/media/image10.wmf" ContentType="image/x-wmf"/>
  <Override PartName="/ppt/media/image3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4E64-1C93-46DF-B966-37A8E71C5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4D1C-4AE4-4DF1-A846-10D3AE98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B416-71C8-4607-9EBA-8E9A8DE1F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F1E6-331C-4412-885F-D15410A6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5297-44F6-42EA-A471-83B4B500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CCD2-A488-4AF9-9A71-7E85EFCF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3125-CD5A-48E2-8679-6CD11986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4441-0AF0-4BB0-B912-540DBEAE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4739-00E6-4414-89C2-A15EF303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9462-6C86-40E2-BD89-C866A834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6E43-B32C-4CCF-B4CA-DB551AC0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E416-0598-43C8-9C97-52769860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9EAA-12A8-42F3-A9D1-C220B58A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1035-3E05-4EA1-ACE8-4FEF1284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630C-1523-468B-8EBD-D85A8B6E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EF7B-BE8D-426A-88D2-43FF18B5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78D8-CDB8-4577-AD1C-C84DCE7B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0B9A-0C3A-428A-8387-280445EB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FDD6-32FE-42A6-B434-5F197575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805F-7E58-4D55-A453-FF7FE5BB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E4B5-BCFA-4D18-8E59-DC98A2D6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FB4E-7036-4A77-AE12-8F8DEA07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6C27-8B36-4E5A-8BAD-3E5A6101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3606-3778-4B34-BFE4-C2BC2A30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E984-22B0-416C-9BCD-D668E6511FB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F998-AD7C-4093-A371-A850C0A3F2A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images.rambler.ru/pic_cache?url=http%3A//www.triorelikt.ru/conserts&amp;bi=http%3A//www.triorelikt.ru/pics/documents/fa2bff368b243f4e2b7e47a9d07bf065_sm.jpg&amp;i=http%3A//media1.picsearch.com/is%3F4zWaNifEAVVPxOOSQk5IUBinAjInvSYuG9GGnK00IO0&amp;w=128&amp;h=106&amp;f=37&amp;q=&#1075;&#1086;&#1089;&#1091;&#1076;&#1072;&#1088;&#1089;&#1090;&#1074;&#1077;&#1085;&#1085;&#1072;&#1103;%20&#1076;&#1091;&#1084;&#1072;&amp;p=1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wiki/files/71/Gossovet_Russia_6_September_2008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vostok.travel.pl/galeria_img/16d6c0ac2b86567f5852.jp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khabar.kz/i_data/1319725293.jp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ura.ru/images/news/129/845/1052129845/sud.jpg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g11.nnm.ru/a/9/8/4/9/c173478df4c30d325d6fce4ed64.jpg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www.enemyforces.net/helicopters/mi28_2.jpg" TargetMode="External"/><Relationship Id="rId4" Type="http://schemas.openxmlformats.org/officeDocument/2006/relationships/image" Target="../media/image24.jpeg"/><Relationship Id="rId5" Type="http://schemas.openxmlformats.org/officeDocument/2006/relationships/hyperlink" Target="http://img-fotki.yandex.ru/get/2710/miroshka1974.2b/0_4740_bbc85b60_XL" TargetMode="External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upload.rb.ru/upload/photo/132947.jpg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img1.1tv.ru/imgsize460x345/20030328155347.GIF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rambler.ru/pic_cache?url=http%3A//www.egor-spb.narod.ru/photo/usa_terrakt_01.htm&amp;bi=http%3A//www.egor-spb.narod.ru/photo/usa_terrakt_01/USA_11sept_06.jpg&amp;i=http%3A//media5.picsearch.com/is%3FSIES4pOKTDYFxMKyBC1QrHYZdeVT-szCJIljboL6L2w&amp;w=84&amp;h=128&amp;f=17&amp;q=&#1090;&#1077;&#1088;&#1088;&#1072;&#1082;&#1090;%20&#1074;%20&#1089;&#1064;&#1040;%2011%20&#1089;&#1077;&#1085;&#1090;&#1103;&#1073;&#1088;&#1103;&amp;p=1" TargetMode="External"/><Relationship Id="rId2" Type="http://schemas.openxmlformats.org/officeDocument/2006/relationships/image" Target="../media/image52.jpeg"/><Relationship Id="rId3" Type="http://schemas.openxmlformats.org/officeDocument/2006/relationships/hyperlink" Target="http://images.rambler.ru/pic_cache?url=http%3A//ru.proua.com/news/2005/09/12/101100.html&amp;bi=http%3A//ru.proua.com/img/11_veresnya.jpg&amp;i=http%3A//media3.picsearch.com/is%3FrPRbJSTYMrhSOKRfOcQRSZQxwMUwj87VBYOlEeOHdFw&amp;w=128&amp;h=92&amp;f=3&amp;q=&#1090;&#1077;&#1088;&#1088;&#1072;&#1082;&#1090;%20&#1074;%20&#1089;&#1064;&#1040;%2011%20&#1089;&#1077;&#1085;&#1090;&#1103;&#1073;&#1088;&#1103;&amp;p=3" TargetMode="External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images.rambler.ru/pic_cache?url=http%3A//www.sostav.ru/news/2005/03/15/15/&amp;bi=http%3A//www.sostav.ru/articles/rus/2005/15.03/news/images/a4.jpg&amp;i=http%3A//media5.picsearch.com/is%3FickPs0UW3OnaZUq4FlXyY7FSaxaSgllZWhqLLMreWJw&amp;w=128&amp;h=96&amp;f=18&amp;q=&#1045;&#1076;&#1080;&#1085;&#1072;&#1103;%20&#1056;&#1086;&#1089;&#1089;&#1080;&#1103;&amp;p=1" TargetMode="External"/><Relationship Id="rId2" Type="http://schemas.openxmlformats.org/officeDocument/2006/relationships/image" Target="../media/image64.jpeg"/><Relationship Id="rId3" Type="http://schemas.openxmlformats.org/officeDocument/2006/relationships/hyperlink" Target="http://images.rambler.ru/pic_cache?url=http%3A//www.soverkon.ru/2006/27/1.php&amp;bi=http%3A//www.soverkon.ru/2006/27/p06_kprf.jpg&amp;i=http%3A//media5.picsearch.com/is%3Fflt3uhDu_AUxFDIctuIeI0uLge6DCaqqgWzemMMN_rU&amp;w=128&amp;h=124&amp;f=15&amp;q=&#1050;&#1055;&#1056;&#1060;&amp;p=1" TargetMode="External"/><Relationship Id="rId4" Type="http://schemas.openxmlformats.org/officeDocument/2006/relationships/image" Target="../media/image65.jpeg"/><Relationship Id="rId5" Type="http://schemas.openxmlformats.org/officeDocument/2006/relationships/hyperlink" Target="http://images.rambler.ru/pic_cache?url=http%3A//www.soverkon.ru/2006/27/1.php&amp;bi=http%3A//www.soverkon.ru/2006/27/p06_ldpr.jpg&amp;i=http%3A//media1.picsearch.com/is%3FxB1JwIKw6iuLGyibyFodzwquXVYSsYmQjJHD-Yb9WBM&amp;w=124&amp;h=128&amp;f=15&amp;q=&#1051;&#1044;&#1055;&#1056;&amp;p=1" TargetMode="External"/><Relationship Id="rId6" Type="http://schemas.openxmlformats.org/officeDocument/2006/relationships/image" Target="../media/image66.jpeg"/><Relationship Id="rId7" Type="http://schemas.openxmlformats.org/officeDocument/2006/relationships/hyperlink" Target="http://images.rambler.ru/pic_cache?url=http%3A//www.zspk.gov.ru/activity/10years/book/002.html&amp;bi=http%3A//www.zspk.gov.ru/activity/10years/book/gryzlov.jpg&amp;i=http%3A//media3.picsearch.com/is%3F2Ph_rBhJ5m0f64uhctzk3CrNf7Eq-MAVrrfXy2lFwAk&amp;w=96&amp;h=128&amp;f=19&amp;q=&#1041;.%20&#1043;&#1088;&#1099;&#1079;&#1083;&#1086;&#1074;&amp;p=1" TargetMode="External"/><Relationship Id="rId8" Type="http://schemas.openxmlformats.org/officeDocument/2006/relationships/image" Target="../media/image67.jpeg"/><Relationship Id="rId9" Type="http://schemas.openxmlformats.org/officeDocument/2006/relationships/hyperlink" Target="http://images.rambler.ru/pic_cache?url=http%3A//www.ladno.ru/technology/2990.html&amp;bi=http%3A//www.ladno.ru/pic/2990.jpg&amp;i=http%3A//media1.picsearch.com/is%3Fob6i49MDLvKKDzw9-_fzXHEPGKHZSoxriy8soFwAB2k&amp;w=128&amp;h=128&amp;f=10&amp;q=&#1043;.&#1040;.%20&#1047;&#1102;&#1075;&#1072;&#1085;&#1086;&#1074;&amp;p=1" TargetMode="External"/><Relationship Id="rId10" Type="http://schemas.openxmlformats.org/officeDocument/2006/relationships/image" Target="../media/image68.jpeg"/><Relationship Id="rId11" Type="http://schemas.openxmlformats.org/officeDocument/2006/relationships/hyperlink" Target="http://images.rambler.ru/pic_cache?url=http%3A//www.tea.ru/285-2092.html&amp;bi=http%3A//www.tea.ru/images/material-images/zakal/jora.jpg&amp;i=http%3A//media3.picsearch.com/is%3F8Q9ifDt3lINZRbT1Vmzy917hE6YCXhiRdp5vr605OOk&amp;w=87&amp;h=128&amp;f=30&amp;q=&#1042;.&#1042;.%20&#1046;&#1080;&#1088;&#1080;&#1085;&#1086;&#1074;&#1089;&#1082;&#1080;&#1081;&amp;p=1" TargetMode="External"/><Relationship Id="rId12" Type="http://schemas.openxmlformats.org/officeDocument/2006/relationships/image" Target="../media/image69.jpeg"/><Relationship Id="rId13" Type="http://schemas.openxmlformats.org/officeDocument/2006/relationships/hyperlink" Target="http://images.rambler.ru/pic_cache?url=http%3A//www.apn-nn.ru/diskurs_s/478.html&amp;bi=http%3A//www.apn-nn.ru/images/dpix/478_b.jpg&amp;i=http%3A//media2.picsearch.com/is%3FitOUL8NTkk7h8UAJBwfCCJav5etIgF-eEbrM9s6pVPY&amp;w=128&amp;h=98&amp;f=7&amp;q=&#1073;&#1083;&#1086;&#1082;%20%22%20&#1056;&#1086;&#1076;&#1080;&#1085;&#1072;%22&amp;p=1" TargetMode="External"/><Relationship Id="rId14" Type="http://schemas.openxmlformats.org/officeDocument/2006/relationships/image" Target="../media/image70.jpeg"/><Relationship Id="rId15" Type="http://schemas.openxmlformats.org/officeDocument/2006/relationships/hyperlink" Target="http://images.rambler.ru/pic_cache?url=http%3A//www.adme.ru/news_152915/2005/06/21/3011/&amp;bi=http%3A//files.adme.ru/img/news/3011/rogozin.jpg&amp;i=http%3A//media3.picsearch.com/is%3F79PQGearyjvuoWVOjIAlR2fFh8JGR9NBLpXrIBIlWs8&amp;w=128&amp;h=128&amp;f=10&amp;q=&#1073;&#1083;&#1086;&#1082;%20%22%20&#1056;&#1086;&#1076;&#1080;&#1085;&#1072;%22&amp;p=3" TargetMode="External"/><Relationship Id="rId16" Type="http://schemas.openxmlformats.org/officeDocument/2006/relationships/image" Target="../media/image71.jpe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images.rambler.ru/pic_cache?url=http%3A//www.dariknews.bg/view_article.php%3Farticle_id%3D624285&amp;bi=http%3A//www.dariknews.bg/uploads/photos_more/201011/path_27769.jpg&amp;i=http%3A//media5.picsearch.com/is%3FskD2wT0nKuisDWIYoDuYBWs-ufYTzR3Pz6-k31iXaIs&amp;w=93&amp;h=128&amp;f=33&amp;q=&#1044;.&#1040;.%20&#1052;&#1077;&#1076;&#1074;&#1077;&#1076;&#1077;&#1074;&amp;p=1" TargetMode="External"/><Relationship Id="rId2" Type="http://schemas.openxmlformats.org/officeDocument/2006/relationships/image" Target="../media/image75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6.jpe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15.nnm.ru/4/3/d/9/b/4190b7598b4ba43dfcdd8528023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en.rian.ru/images/16464/82/164648210.jpg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assets3.lookatme.ru/assets/article_image-image/71/4c/120443/article_image-image-article.jpg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perspb.narod.ru/Vladimir_Putin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35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Тема уро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2627280" y="2781000"/>
            <a:ext cx="612144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« Россия в начале XXI века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Рисунок 2" descr="putin0001.jpg"/>
          <p:cNvPicPr/>
          <p:nvPr/>
        </p:nvPicPr>
        <p:blipFill>
          <a:blip r:embed="rId1"/>
          <a:stretch/>
        </p:blipFill>
        <p:spPr>
          <a:xfrm>
            <a:off x="468360" y="2205000"/>
            <a:ext cx="1442880" cy="19447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387" name="Picture 8" descr="М"/>
          <p:cNvPicPr/>
          <p:nvPr/>
        </p:nvPicPr>
        <p:blipFill>
          <a:blip r:embed="rId2"/>
          <a:stretch/>
        </p:blipFill>
        <p:spPr>
          <a:xfrm>
            <a:off x="6948360" y="189000"/>
            <a:ext cx="1943280" cy="18129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9" descr="С"/>
          <p:cNvPicPr/>
          <p:nvPr/>
        </p:nvPicPr>
        <p:blipFill>
          <a:blip r:embed="rId3"/>
          <a:stretch/>
        </p:blipFill>
        <p:spPr>
          <a:xfrm>
            <a:off x="179280" y="189000"/>
            <a:ext cx="2160720" cy="162396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4" descr="sovet-0312.jpg"/>
          <p:cNvPicPr/>
          <p:nvPr/>
        </p:nvPicPr>
        <p:blipFill>
          <a:blip r:embed="rId4"/>
          <a:stretch/>
        </p:blipFill>
        <p:spPr>
          <a:xfrm>
            <a:off x="5796000" y="4581360"/>
            <a:ext cx="3089160" cy="20638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390" name="Рисунок 1" descr="Совфед.jpg"/>
          <p:cNvPicPr/>
          <p:nvPr/>
        </p:nvPicPr>
        <p:blipFill>
          <a:blip r:embed="rId5"/>
          <a:stretch/>
        </p:blipFill>
        <p:spPr>
          <a:xfrm>
            <a:off x="611280" y="4508640"/>
            <a:ext cx="2808360" cy="2108160"/>
          </a:xfrm>
          <a:prstGeom prst="rect">
            <a:avLst/>
          </a:prstGeom>
          <a:ln w="0">
            <a:noFill/>
          </a:ln>
        </p:spPr>
      </p:pic>
      <p:sp>
        <p:nvSpPr>
          <p:cNvPr id="391" name="TextBox 8"/>
          <p:cNvSpPr/>
          <p:nvPr/>
        </p:nvSpPr>
        <p:spPr>
          <a:xfrm>
            <a:off x="3635280" y="5157720"/>
            <a:ext cx="21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подаватель Коровина Л.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Рисунок 2" descr="Федеральные округа.jpg"/>
          <p:cNvPicPr/>
          <p:nvPr/>
        </p:nvPicPr>
        <p:blipFill>
          <a:blip r:embed="rId1"/>
          <a:stretch/>
        </p:blipFill>
        <p:spPr>
          <a:xfrm>
            <a:off x="179280" y="1557360"/>
            <a:ext cx="8964720" cy="53006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418" name=""/>
          <p:cNvSpPr txBox="1"/>
          <p:nvPr/>
        </p:nvSpPr>
        <p:spPr>
          <a:xfrm>
            <a:off x="357480" y="284040"/>
            <a:ext cx="8429040" cy="103140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Политические реформы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301680" y="1413000"/>
            <a:ext cx="86630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 u="sng">
                <a:solidFill>
                  <a:srgbClr val="a3c145"/>
                </a:solidFill>
                <a:uFillTx/>
                <a:latin typeface="Tahoma"/>
              </a:rPr>
              <a:t>Реформа местного самоуправле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( разделение на 7 федеральных округов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) Центральный     2) Северо – запад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3) Южный             4) Поволж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5) Уральский         6) Сибир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7) Дальневосточ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a3c145"/>
                </a:solidFill>
                <a:latin typeface="Tahoma"/>
              </a:rPr>
              <a:t>Итог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силилась роль Цент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крепилась Федер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зродилось единое законодательство Росс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57480" y="171360"/>
            <a:ext cx="8429040" cy="103140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Политические реформы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150840" y="1179360"/>
            <a:ext cx="884232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Главами округов были назначены полномочные представители Президента. В короткий срок удалось привести местные законы в соответствие с Конституцией России и федеральным законодательством. В округах были созданы органы прокуратуры и внутренних де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57480" y="55440"/>
            <a:ext cx="8429040" cy="103140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Политические реформы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Политические реформ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591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3c145"/>
                </a:solidFill>
                <a:uFillTx/>
                <a:latin typeface="Tahoma"/>
              </a:rPr>
              <a:t>Реформа Федерального собран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 формировался из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едставителе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егионов, избран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законодательным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рган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 назначенных главам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дминистрац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5" name="Рисунок 4" descr="sovet-0312.jpg"/>
          <p:cNvPicPr/>
          <p:nvPr/>
        </p:nvPicPr>
        <p:blipFill>
          <a:blip r:embed="rId1"/>
          <a:stretch/>
        </p:blipFill>
        <p:spPr>
          <a:xfrm>
            <a:off x="5940360" y="1989000"/>
            <a:ext cx="3024360" cy="20210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426" name="Picture 10" descr="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56360" y="4797360"/>
            <a:ext cx="2736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Рисунок 1" descr="Совфед.jpg"/>
          <p:cNvPicPr/>
          <p:nvPr/>
        </p:nvPicPr>
        <p:blipFill>
          <a:blip r:embed="rId1"/>
          <a:stretch/>
        </p:blipFill>
        <p:spPr>
          <a:xfrm>
            <a:off x="250920" y="115920"/>
            <a:ext cx="4105080" cy="3127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28" name="Рисунок 3" descr="345260.jpg"/>
          <p:cNvPicPr/>
          <p:nvPr/>
        </p:nvPicPr>
        <p:blipFill>
          <a:blip r:embed="rId2"/>
          <a:stretch/>
        </p:blipFill>
        <p:spPr>
          <a:xfrm>
            <a:off x="5724360" y="115920"/>
            <a:ext cx="2289240" cy="309708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429" name="AutoShape 6"/>
          <p:cNvSpPr/>
          <p:nvPr/>
        </p:nvSpPr>
        <p:spPr>
          <a:xfrm>
            <a:off x="0" y="3429000"/>
            <a:ext cx="3635280" cy="863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Заседание Сов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едер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AutoShape 7"/>
          <p:cNvSpPr/>
          <p:nvPr/>
        </p:nvSpPr>
        <p:spPr>
          <a:xfrm>
            <a:off x="5148360" y="3068640"/>
            <a:ext cx="3779640" cy="13683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. Мирон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едседат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овета Федер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Rectangle 8"/>
          <p:cNvSpPr/>
          <p:nvPr/>
        </p:nvSpPr>
        <p:spPr>
          <a:xfrm>
            <a:off x="8604360" y="481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Rectangle 9"/>
          <p:cNvSpPr/>
          <p:nvPr/>
        </p:nvSpPr>
        <p:spPr>
          <a:xfrm>
            <a:off x="179280" y="4508640"/>
            <a:ext cx="8964720" cy="2349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Итоги деятельности Совета Федерации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овершенствовано федеративное устройство Росс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еодоление наиболе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трых противоречий межд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центром и регион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3995280" y="1600200"/>
            <a:ext cx="48466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Был создан Государственный Совет, в состав которого вошли все главы регионов, целью которого было выдвижение и обсуждение общенациональных проек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4" name="Picture 8" descr="Картинка 17 из 1498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4221000"/>
            <a:ext cx="3384360" cy="22608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0" descr="Картинка 1 из 6320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1557360"/>
            <a:ext cx="3384360" cy="253368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357480" y="284040"/>
            <a:ext cx="8429040" cy="103140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Политические реформы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4176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a3c145"/>
                </a:solidFill>
                <a:uFillTx/>
                <a:latin typeface="Tahoma"/>
              </a:rPr>
              <a:t>Закон о политических партиях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( признавались партии, которые имели массовую народную поддержку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8" name="Рисунок 2" descr="324px-Edinaya_Russia.svg.png"/>
          <p:cNvPicPr/>
          <p:nvPr/>
        </p:nvPicPr>
        <p:blipFill>
          <a:blip r:embed="rId1"/>
          <a:stretch/>
        </p:blipFill>
        <p:spPr>
          <a:xfrm>
            <a:off x="4716360" y="1268280"/>
            <a:ext cx="2043360" cy="259236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439" name="Рисунок 4" descr="i_2004475701.jpg"/>
          <p:cNvPicPr/>
          <p:nvPr/>
        </p:nvPicPr>
        <p:blipFill>
          <a:blip r:embed="rId2"/>
          <a:stretch/>
        </p:blipFill>
        <p:spPr>
          <a:xfrm>
            <a:off x="6877080" y="1268280"/>
            <a:ext cx="2233440" cy="259236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440" name="Рисунок 3" descr="KPRF_logo.png"/>
          <p:cNvPicPr/>
          <p:nvPr/>
        </p:nvPicPr>
        <p:blipFill>
          <a:blip r:embed="rId3"/>
          <a:stretch/>
        </p:blipFill>
        <p:spPr>
          <a:xfrm>
            <a:off x="4572000" y="3933720"/>
            <a:ext cx="1951200" cy="21812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441" name="Рисунок 5" descr="sr.jpg"/>
          <p:cNvPicPr/>
          <p:nvPr/>
        </p:nvPicPr>
        <p:blipFill>
          <a:blip r:embed="rId4"/>
          <a:stretch/>
        </p:blipFill>
        <p:spPr>
          <a:xfrm>
            <a:off x="6732720" y="3933720"/>
            <a:ext cx="2279520" cy="2374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42" name=""/>
          <p:cNvSpPr txBox="1"/>
          <p:nvPr/>
        </p:nvSpPr>
        <p:spPr>
          <a:xfrm>
            <a:off x="357480" y="284040"/>
            <a:ext cx="8429040" cy="103140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Политические реформы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57480" y="284040"/>
            <a:ext cx="8429040" cy="103140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Политические реформы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179280" y="1600200"/>
            <a:ext cx="43164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3c145"/>
                </a:solidFill>
                <a:uFillTx/>
                <a:latin typeface="Tahoma"/>
              </a:rPr>
              <a:t>Судебная реформ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явление суда присяжных, института мировых судей и судебных приставов, выведены народные заседате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5" name="Picture 8" descr="Картинка 7 из 976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134136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0" descr="su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48360" y="4149720"/>
            <a:ext cx="374472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57480" y="55440"/>
            <a:ext cx="8429040" cy="103140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Политические реформы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301680" y="1600200"/>
            <a:ext cx="419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3c145"/>
                </a:solidFill>
                <a:uFillTx/>
                <a:latin typeface="Tahoma"/>
              </a:rPr>
              <a:t>Военная реформ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овозгласившая создание профессиональной, хорошо вооружённой и обученной Российской армии к 2015 год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9" name="Picture 8" descr="Картинка 2 из 1463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1220760"/>
            <a:ext cx="3097080" cy="22082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0" descr="Картинка 11 из 1463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12000" y="2997360"/>
            <a:ext cx="2879640" cy="20635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2" descr="Картинка 10 из 1463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0" y="4581360"/>
            <a:ext cx="318600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301680" y="2565360"/>
            <a:ext cx="866304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екабрь 2000 год Государственная дума  утвердил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57480" y="284040"/>
            <a:ext cx="8429040" cy="103140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Новые государственные символ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4" name="Rectangle 16"/>
          <p:cNvSpPr/>
          <p:nvPr/>
        </p:nvSpPr>
        <p:spPr>
          <a:xfrm>
            <a:off x="324000" y="1484280"/>
            <a:ext cx="8569080" cy="16574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от уже 10 лет, как перестал существовать СССР, а 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оссии до сих пор нет национальных символ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5" name="Рисунок 2" descr="ru127.gif"/>
          <p:cNvPicPr/>
          <p:nvPr/>
        </p:nvPicPr>
        <p:blipFill>
          <a:blip r:embed="rId1"/>
          <a:stretch/>
        </p:blipFill>
        <p:spPr>
          <a:xfrm>
            <a:off x="250920" y="4149720"/>
            <a:ext cx="2365200" cy="237168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4" descr="49751477_rf1t.jpg"/>
          <p:cNvPicPr/>
          <p:nvPr/>
        </p:nvPicPr>
        <p:blipFill>
          <a:blip r:embed="rId2"/>
          <a:stretch/>
        </p:blipFill>
        <p:spPr>
          <a:xfrm>
            <a:off x="2932200" y="4365720"/>
            <a:ext cx="1639800" cy="194472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3" descr="GimnRos.jpg"/>
          <p:cNvPicPr/>
          <p:nvPr/>
        </p:nvPicPr>
        <p:blipFill>
          <a:blip r:embed="rId3"/>
          <a:stretch/>
        </p:blipFill>
        <p:spPr>
          <a:xfrm>
            <a:off x="5651640" y="4365720"/>
            <a:ext cx="2808000" cy="1852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Цели урока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ознакомиться с положением России  в начале XXI ве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ознакомиться с реформами, проводимыми в данный период времен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Выяснить, как походили выборы в Государственную думу и президентские выбо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4648320" y="189000"/>
            <a:ext cx="43164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егулярно проходят встречи Путина с лидерами думских фракций. Обмен информацией о действиях и планах высших органов власти, совместный поиск политических решений повышают эффективность государ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9" name="Picture 8" descr="Картинка 10 из 24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08000"/>
            <a:ext cx="4248360" cy="31860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1" descr="2003032815534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3591000"/>
            <a:ext cx="410508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рочитайте отрывок их послания Президента РФ В.В. Путина Федеральному Собранию ( стр. 375) и ответьте на вопрос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акие цели поставил Президент перед органами власти и обществом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 каких трудностях говорил Президент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57480" y="284040"/>
            <a:ext cx="8429040" cy="1031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Экономические реформы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301680" y="1412640"/>
            <a:ext cx="85183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c145"/>
                </a:solidFill>
                <a:latin typeface="Tahoma"/>
              </a:rPr>
              <a:t>Проведена налоговая реформа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введён единый 13% налог на доходы населения, снижен налог на прибыль предприятий и организаци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57480" y="284040"/>
            <a:ext cx="8429040" cy="1031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Экономические реформы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3c145"/>
                </a:solidFill>
                <a:latin typeface="Tahoma"/>
              </a:rPr>
              <a:t>Принят закон о поддержке малого и среднего предприниматель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57480" y="284040"/>
            <a:ext cx="8429040" cy="1031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Экономические реформы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67" name="Picture 6" descr="2138860"/>
          <p:cNvPicPr/>
          <p:nvPr/>
        </p:nvPicPr>
        <p:blipFill>
          <a:blip r:embed="rId1"/>
          <a:stretch/>
        </p:blipFill>
        <p:spPr>
          <a:xfrm>
            <a:off x="1042920" y="2781360"/>
            <a:ext cx="19051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183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3c145"/>
                </a:solidFill>
                <a:latin typeface="Tahoma"/>
              </a:rPr>
              <a:t>Начата аграрная реформ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-  законы о купле – продаже земли, новый порядок наследования имущества и др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57480" y="284040"/>
            <a:ext cx="8429040" cy="1031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Экономические реформы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3c145"/>
                </a:solidFill>
                <a:latin typeface="Tahoma"/>
              </a:rPr>
              <a:t>Принят закон, ограничивающий власть естественных монополий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( Газпром, РАО « Единая энергетическая система России», Министерство железнодорожного транспорт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57480" y="284040"/>
            <a:ext cx="8429040" cy="1031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Экономические реформы</a:t>
            </a: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72" name="Picture 6" descr="1335962067_0031"/>
          <p:cNvPicPr/>
          <p:nvPr/>
        </p:nvPicPr>
        <p:blipFill>
          <a:blip r:embed="rId1"/>
          <a:stretch/>
        </p:blipFill>
        <p:spPr>
          <a:xfrm>
            <a:off x="395280" y="4149720"/>
            <a:ext cx="3168720" cy="253368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8" descr="Газпром и НОВАТЭК снова встретятся на Ямале"/>
          <p:cNvPicPr/>
          <p:nvPr/>
        </p:nvPicPr>
        <p:blipFill>
          <a:blip r:embed="rId2"/>
          <a:stretch/>
        </p:blipFill>
        <p:spPr>
          <a:xfrm>
            <a:off x="5435640" y="4292640"/>
            <a:ext cx="29527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3c145"/>
                </a:solidFill>
                <a:latin typeface="Tahoma"/>
              </a:rPr>
              <a:t>Новый курс по отношению к олигарх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57480" y="284040"/>
            <a:ext cx="8429040" cy="1031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Экономические реформы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76" name="Picture 8" descr="prohorov0"/>
          <p:cNvPicPr/>
          <p:nvPr/>
        </p:nvPicPr>
        <p:blipFill>
          <a:blip r:embed="rId1"/>
          <a:stretch/>
        </p:blipFill>
        <p:spPr>
          <a:xfrm>
            <a:off x="6084720" y="2205000"/>
            <a:ext cx="2808360" cy="21020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1" descr="abramovich1"/>
          <p:cNvPicPr/>
          <p:nvPr/>
        </p:nvPicPr>
        <p:blipFill>
          <a:blip r:embed="rId2"/>
          <a:stretch/>
        </p:blipFill>
        <p:spPr>
          <a:xfrm>
            <a:off x="395280" y="3141720"/>
            <a:ext cx="1905120" cy="26002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4" descr="deripaska2"/>
          <p:cNvPicPr/>
          <p:nvPr/>
        </p:nvPicPr>
        <p:blipFill>
          <a:blip r:embed="rId3"/>
          <a:stretch/>
        </p:blipFill>
        <p:spPr>
          <a:xfrm>
            <a:off x="3492360" y="2421000"/>
            <a:ext cx="1657440" cy="256212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16"/>
          <p:cNvSpPr/>
          <p:nvPr/>
        </p:nvSpPr>
        <p:spPr>
          <a:xfrm>
            <a:off x="6012000" y="4221000"/>
            <a:ext cx="2881080" cy="86364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. Прохор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руппа ОНЭКСИ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Rectangle 17"/>
          <p:cNvSpPr/>
          <p:nvPr/>
        </p:nvSpPr>
        <p:spPr>
          <a:xfrm>
            <a:off x="2916360" y="4724280"/>
            <a:ext cx="3095640" cy="9367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. Дерипас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 Российски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люминий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Rectangle 18"/>
          <p:cNvSpPr/>
          <p:nvPr/>
        </p:nvSpPr>
        <p:spPr>
          <a:xfrm>
            <a:off x="0" y="5589720"/>
            <a:ext cx="2881440" cy="86364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. Абрамови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нвести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3c145"/>
                </a:solidFill>
                <a:latin typeface="Tahoma"/>
              </a:rPr>
              <a:t>Увеличивались расходы на оборону стран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оздание новейших образцов вооружения и  техни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57480" y="284040"/>
            <a:ext cx="8429040" cy="1031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Экономические реформы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84" name="Picture 8" descr="Ракетный комплекс 'Тополь-М'. Фото с сайта baltgames.lv"/>
          <p:cNvPicPr/>
          <p:nvPr/>
        </p:nvPicPr>
        <p:blipFill>
          <a:blip r:embed="rId1"/>
          <a:stretch/>
        </p:blipFill>
        <p:spPr>
          <a:xfrm>
            <a:off x="250920" y="4221000"/>
            <a:ext cx="2592360" cy="191484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1" descr="Бронетанковая&#13;&#10;техника"/>
          <p:cNvPicPr/>
          <p:nvPr/>
        </p:nvPicPr>
        <p:blipFill>
          <a:blip r:embed="rId2"/>
          <a:stretch/>
        </p:blipFill>
        <p:spPr>
          <a:xfrm>
            <a:off x="6227640" y="4005360"/>
            <a:ext cx="2664000" cy="18777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3" descr="Другая&#13;&#10;техника"/>
          <p:cNvPicPr/>
          <p:nvPr/>
        </p:nvPicPr>
        <p:blipFill>
          <a:blip r:embed="rId3"/>
          <a:stretch/>
        </p:blipFill>
        <p:spPr>
          <a:xfrm>
            <a:off x="3240000" y="4653000"/>
            <a:ext cx="266400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57480" y="284040"/>
            <a:ext cx="8429040" cy="1031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Усиление борьбы с терроризмом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88" name="Рисунок 2" descr="Волгодонск 99.jpg"/>
          <p:cNvPicPr/>
          <p:nvPr/>
        </p:nvPicPr>
        <p:blipFill>
          <a:blip r:embed="rId1"/>
          <a:stretch/>
        </p:blipFill>
        <p:spPr>
          <a:xfrm>
            <a:off x="611280" y="1484280"/>
            <a:ext cx="3313080" cy="214632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489" name="Rectangle 8"/>
          <p:cNvSpPr/>
          <p:nvPr/>
        </p:nvSpPr>
        <p:spPr>
          <a:xfrm>
            <a:off x="179280" y="3429000"/>
            <a:ext cx="4248360" cy="7207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олгодонск 1999 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0" name="Picture 10" descr="202big"/>
          <p:cNvPicPr/>
          <p:nvPr/>
        </p:nvPicPr>
        <p:blipFill>
          <a:blip r:embed="rId2"/>
          <a:stretch/>
        </p:blipFill>
        <p:spPr>
          <a:xfrm>
            <a:off x="5292720" y="1413000"/>
            <a:ext cx="2735280" cy="208728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11"/>
          <p:cNvSpPr/>
          <p:nvPr/>
        </p:nvSpPr>
        <p:spPr>
          <a:xfrm>
            <a:off x="4147920" y="4730760"/>
            <a:ext cx="2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Rectangle 12"/>
          <p:cNvSpPr/>
          <p:nvPr/>
        </p:nvSpPr>
        <p:spPr>
          <a:xfrm>
            <a:off x="4716360" y="3429000"/>
            <a:ext cx="4248360" cy="7207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ракт в Буйнакс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TextBox 1"/>
          <p:cNvSpPr/>
          <p:nvPr/>
        </p:nvSpPr>
        <p:spPr>
          <a:xfrm>
            <a:off x="285840" y="4221000"/>
            <a:ext cx="8572320" cy="26542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Corbel"/>
              </a:rPr>
              <a:t>В день вступления Путина на пост главы правительства чеченские боевики </a:t>
            </a:r>
            <a:r>
              <a:rPr b="1" i="1" lang="ru-RU" sz="2400" spc="-1" strike="noStrike">
                <a:solidFill>
                  <a:srgbClr val="ff0000"/>
                </a:solidFill>
                <a:latin typeface="Corbel"/>
              </a:rPr>
              <a:t>вторглись в Дагестан</a:t>
            </a:r>
            <a:r>
              <a:rPr b="1" i="1" lang="ru-RU" sz="2400" spc="-1" strike="noStrike">
                <a:solidFill>
                  <a:srgbClr val="ffffff"/>
                </a:solidFill>
                <a:latin typeface="Corbel"/>
              </a:rPr>
              <a:t>, провозгласив имамат. Путин провозгласил начало </a:t>
            </a:r>
            <a:r>
              <a:rPr b="1" i="1" lang="ru-RU" sz="2400" spc="-1" strike="noStrike">
                <a:solidFill>
                  <a:srgbClr val="ff0000"/>
                </a:solidFill>
                <a:latin typeface="Corbel"/>
              </a:rPr>
              <a:t>контртеррористической операции</a:t>
            </a:r>
            <a:r>
              <a:rPr b="1" i="1" lang="ru-RU" sz="2400" spc="-1" strike="noStrike">
                <a:solidFill>
                  <a:srgbClr val="ffffff"/>
                </a:solidFill>
                <a:latin typeface="Corbel"/>
              </a:rPr>
              <a:t>, началась </a:t>
            </a:r>
            <a:r>
              <a:rPr b="1" i="1" lang="ru-RU" sz="2400" spc="-1" strike="noStrike">
                <a:solidFill>
                  <a:srgbClr val="ff0000"/>
                </a:solidFill>
                <a:latin typeface="Corbel"/>
              </a:rPr>
              <a:t>вторая чеченская война</a:t>
            </a:r>
            <a:r>
              <a:rPr b="1" i="1" lang="ru-RU" sz="2400" spc="-1" strike="noStrike">
                <a:solidFill>
                  <a:srgbClr val="ffffff"/>
                </a:solidFill>
                <a:latin typeface="Corbel"/>
              </a:rPr>
              <a:t>. Боевики ответили терактами в Москве, Волгодонске и Буйнакс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357480" y="284040"/>
            <a:ext cx="8429040" cy="1031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Усиление борьбы с терроризмом</a:t>
            </a: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87280" y="1595160"/>
            <a:ext cx="8569440" cy="18334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сенью 1999 г. федеральные войска вступили в Чечню и за пару недель взяли под контроль всю республику. Боевики перешли к партизанской борьбе. Вскоре ликвидированы были и они. Сопротивление к 2008 г. было подавлено практически полность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6" name="Рисунок 4" descr="Грозный.jpg"/>
          <p:cNvPicPr/>
          <p:nvPr/>
        </p:nvPicPr>
        <p:blipFill>
          <a:blip r:embed="rId1"/>
          <a:stretch/>
        </p:blipFill>
        <p:spPr>
          <a:xfrm>
            <a:off x="395280" y="3429000"/>
            <a:ext cx="4381560" cy="322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7" name="Picture 10" descr="4250"/>
          <p:cNvPicPr/>
          <p:nvPr/>
        </p:nvPicPr>
        <p:blipFill>
          <a:blip r:embed="rId2"/>
          <a:stretch/>
        </p:blipFill>
        <p:spPr>
          <a:xfrm>
            <a:off x="5076720" y="3429000"/>
            <a:ext cx="40672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План уро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резидент России В.В. Пут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олитические рефор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овые государственные символы Росс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Экономические рефор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Усиление борьбы с терроризм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азработка новой внешнеполитической стратег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ыборы 2003- 2004 г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резидентские выборы 2008 год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357480" y="284040"/>
            <a:ext cx="8429040" cy="1031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Усиление борьбы с терроризмом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179280" y="1484280"/>
            <a:ext cx="8640720" cy="13683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Ответ террористов был страшен. В октябре 2002 г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террористы захватили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1800" spc="-1" strike="noStrike">
                <a:solidFill>
                  <a:srgbClr val="ff0000"/>
                </a:solidFill>
                <a:latin typeface="Tahoma"/>
              </a:rPr>
              <a:t>театральный цент на Дубровк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взяв в заложники более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Tahoma"/>
              </a:rPr>
              <a:t>800 человек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огибло более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Tahoma"/>
              </a:rPr>
              <a:t>150 человек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0" name="Рисунок 2" descr="default.jpeg"/>
          <p:cNvPicPr/>
          <p:nvPr/>
        </p:nvPicPr>
        <p:blipFill>
          <a:blip r:embed="rId1"/>
          <a:stretch/>
        </p:blipFill>
        <p:spPr>
          <a:xfrm>
            <a:off x="250920" y="3068640"/>
            <a:ext cx="2376360" cy="1665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01" name="Рисунок 3" descr="838349_20060317093842.jpg"/>
          <p:cNvPicPr/>
          <p:nvPr/>
        </p:nvPicPr>
        <p:blipFill>
          <a:blip r:embed="rId2"/>
          <a:stretch/>
        </p:blipFill>
        <p:spPr>
          <a:xfrm>
            <a:off x="6372360" y="5013360"/>
            <a:ext cx="2376360" cy="1727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02" name="Picture 9" descr="Один из ликвидированных боевиков принимал непосредственное участие в подготовке захвата заложников в Театральном центре на Дубровке в Москве"/>
          <p:cNvPicPr/>
          <p:nvPr/>
        </p:nvPicPr>
        <p:blipFill>
          <a:blip r:embed="rId3"/>
          <a:stretch/>
        </p:blipFill>
        <p:spPr>
          <a:xfrm>
            <a:off x="250920" y="4869000"/>
            <a:ext cx="2376360" cy="17748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1" descr="Лидера чеченской банды Мовсара Бараева убили спецназовцы во время штурма здания"/>
          <p:cNvPicPr/>
          <p:nvPr/>
        </p:nvPicPr>
        <p:blipFill>
          <a:blip r:embed="rId4"/>
          <a:stretch/>
        </p:blipFill>
        <p:spPr>
          <a:xfrm>
            <a:off x="6372360" y="2997360"/>
            <a:ext cx="2368440" cy="17683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13" descr="Одной из женщин-террористок, участвовавших в захвате заложников в театральном центре &quot;Норд-Ост&quot;, была вдова полевого командира Арби Бараева Зура"/>
          <p:cNvPicPr/>
          <p:nvPr/>
        </p:nvPicPr>
        <p:blipFill>
          <a:blip r:embed="rId5"/>
          <a:stretch/>
        </p:blipFill>
        <p:spPr>
          <a:xfrm>
            <a:off x="3419640" y="2997360"/>
            <a:ext cx="2376360" cy="17748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5" descr="В руке у главаря террористов была зажата бутылка коньяка"/>
          <p:cNvPicPr/>
          <p:nvPr/>
        </p:nvPicPr>
        <p:blipFill>
          <a:blip r:embed="rId6"/>
          <a:stretch/>
        </p:blipFill>
        <p:spPr>
          <a:xfrm>
            <a:off x="3419640" y="4941720"/>
            <a:ext cx="2376360" cy="17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357480" y="284040"/>
            <a:ext cx="8429040" cy="1031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Усиление борьбы с терроризмом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341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ин за другим уничтожаются виднейшие лидеры боевиков. Единицы главарей, избежавших смерти, скрылись за рубежом. Главой республики становится перешедший на сторону России муфтий Чечни Ахмат Кадыров, погибший 9 мая 2004 года в результате теракта. Его преемником стал сын - Рамзан Кадыр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8" name="Picture 5" descr="Ахмат Кадыров"/>
          <p:cNvPicPr/>
          <p:nvPr/>
        </p:nvPicPr>
        <p:blipFill>
          <a:blip r:embed="rId1"/>
          <a:stretch/>
        </p:blipFill>
        <p:spPr>
          <a:xfrm>
            <a:off x="4716360" y="1557360"/>
            <a:ext cx="2238480" cy="295596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509" name="Рисунок 3" descr="kadyrov_speak.jpg"/>
          <p:cNvPicPr/>
          <p:nvPr/>
        </p:nvPicPr>
        <p:blipFill>
          <a:blip r:embed="rId2"/>
          <a:stretch/>
        </p:blipFill>
        <p:spPr>
          <a:xfrm>
            <a:off x="6659640" y="3789360"/>
            <a:ext cx="2314440" cy="280836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. 378 – 38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57480" y="284040"/>
            <a:ext cx="8429040" cy="1031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азработка новой внешнеполитической стратегии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Разработка новой внешнеполитической стратегии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194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999 – 2000г. – призыв мирового сообщества объединиться для борьбы с терроризм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1 сентября 2001 год – теракт в СШ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силия с США и др. странами по подготовке и проведению контртерраристических операций в Афганистан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сстановлены отношения с НАТ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лаживаются связи с партнёрами СН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становлены стратегические отношения с Китаем, Монголией, Вьетнамом, Инди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остряются отношения на Ближнем Восток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4" name="Picture 6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557360"/>
            <a:ext cx="2032200" cy="309564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 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00000" y="4149720"/>
            <a:ext cx="345600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Box 1"/>
          <p:cNvSpPr/>
          <p:nvPr/>
        </p:nvSpPr>
        <p:spPr>
          <a:xfrm>
            <a:off x="285840" y="214200"/>
            <a:ext cx="8572320" cy="22885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Corbel"/>
              </a:rPr>
              <a:t>1 сентября 2004 г. в </a:t>
            </a:r>
            <a:r>
              <a:rPr b="1" i="1" lang="ru-RU" sz="2400" spc="-1" strike="noStrike">
                <a:solidFill>
                  <a:srgbClr val="ff0000"/>
                </a:solidFill>
                <a:latin typeface="Corbel"/>
              </a:rPr>
              <a:t>г.Беслане</a:t>
            </a:r>
            <a:r>
              <a:rPr b="1" i="1" lang="ru-RU" sz="2400" spc="-1" strike="noStrike">
                <a:solidFill>
                  <a:srgbClr val="ffffff"/>
                </a:solidFill>
                <a:latin typeface="Corbel"/>
              </a:rPr>
              <a:t> в Северной Осетии группа террористов захватила школу с </a:t>
            </a:r>
            <a:r>
              <a:rPr b="1" i="1" lang="ru-RU" sz="2400" spc="-1" strike="noStrike">
                <a:solidFill>
                  <a:srgbClr val="ff0000"/>
                </a:solidFill>
                <a:latin typeface="Corbel"/>
              </a:rPr>
              <a:t>1128 человеками </a:t>
            </a:r>
            <a:r>
              <a:rPr b="1" i="1" lang="ru-RU" sz="2400" spc="-1" strike="noStrike">
                <a:solidFill>
                  <a:srgbClr val="ffffff"/>
                </a:solidFill>
                <a:latin typeface="Corbel"/>
              </a:rPr>
              <a:t>в ней. В результате штурма  от рук террористов погибло более </a:t>
            </a:r>
            <a:r>
              <a:rPr b="1" i="1" lang="ru-RU" sz="2400" spc="-1" strike="noStrike">
                <a:solidFill>
                  <a:srgbClr val="ff0000"/>
                </a:solidFill>
                <a:latin typeface="Corbel"/>
              </a:rPr>
              <a:t>350 человек</a:t>
            </a:r>
            <a:r>
              <a:rPr b="1" i="1" lang="ru-RU" sz="2400" spc="-1" strike="noStrike">
                <a:solidFill>
                  <a:srgbClr val="ffffff"/>
                </a:solidFill>
                <a:latin typeface="Corbel"/>
              </a:rPr>
              <a:t>. Чудовищнее теракта нельзя было придумать. Большинство погибших были де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7" name="Рисунок 2" descr="2e5874818d40.jpg"/>
          <p:cNvPicPr/>
          <p:nvPr/>
        </p:nvPicPr>
        <p:blipFill>
          <a:blip r:embed="rId1"/>
          <a:stretch/>
        </p:blipFill>
        <p:spPr>
          <a:xfrm>
            <a:off x="1547640" y="2133720"/>
            <a:ext cx="6096240" cy="4572000"/>
          </a:xfrm>
          <a:prstGeom prst="rect">
            <a:avLst/>
          </a:prstGeom>
          <a:ln w="41400">
            <a:solidFill>
              <a:srgbClr val="ffffff"/>
            </a:solidFill>
            <a:miter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Рисунок 1" descr="06.jpg"/>
          <p:cNvPicPr/>
          <p:nvPr/>
        </p:nvPicPr>
        <p:blipFill>
          <a:blip r:embed="rId1"/>
          <a:stretch/>
        </p:blipFill>
        <p:spPr>
          <a:xfrm>
            <a:off x="428760" y="214200"/>
            <a:ext cx="3082680" cy="3281400"/>
          </a:xfrm>
          <a:prstGeom prst="rect">
            <a:avLst/>
          </a:prstGeom>
          <a:ln w="41400">
            <a:solidFill>
              <a:srgbClr val="ffffff"/>
            </a:solidFill>
            <a:miter/>
          </a:ln>
        </p:spPr>
      </p:pic>
      <p:pic>
        <p:nvPicPr>
          <p:cNvPr id="519" name="Рисунок 2" descr="18_Dum3.jpg"/>
          <p:cNvPicPr/>
          <p:nvPr/>
        </p:nvPicPr>
        <p:blipFill>
          <a:blip r:embed="rId2"/>
          <a:stretch/>
        </p:blipFill>
        <p:spPr>
          <a:xfrm>
            <a:off x="214200" y="3714840"/>
            <a:ext cx="3272040" cy="2916000"/>
          </a:xfrm>
          <a:prstGeom prst="rect">
            <a:avLst/>
          </a:prstGeom>
          <a:ln w="44280">
            <a:solidFill>
              <a:srgbClr val="ffffff"/>
            </a:solidFill>
            <a:miter/>
          </a:ln>
        </p:spPr>
      </p:pic>
      <p:pic>
        <p:nvPicPr>
          <p:cNvPr id="520" name="Рисунок 3" descr="29-987.jpg"/>
          <p:cNvPicPr/>
          <p:nvPr/>
        </p:nvPicPr>
        <p:blipFill>
          <a:blip r:embed="rId3"/>
          <a:stretch/>
        </p:blipFill>
        <p:spPr>
          <a:xfrm>
            <a:off x="4429080" y="214200"/>
            <a:ext cx="4095720" cy="3071880"/>
          </a:xfrm>
          <a:prstGeom prst="rect">
            <a:avLst/>
          </a:prstGeom>
          <a:ln w="44280">
            <a:solidFill>
              <a:srgbClr val="ffffff"/>
            </a:solidFill>
            <a:miter/>
          </a:ln>
        </p:spPr>
      </p:pic>
      <p:pic>
        <p:nvPicPr>
          <p:cNvPr id="521" name="Рисунок 4" descr="26098.jpeg"/>
          <p:cNvPicPr/>
          <p:nvPr/>
        </p:nvPicPr>
        <p:blipFill>
          <a:blip r:embed="rId4"/>
          <a:stretch/>
        </p:blipFill>
        <p:spPr>
          <a:xfrm>
            <a:off x="4286160" y="3429000"/>
            <a:ext cx="4357800" cy="3268800"/>
          </a:xfrm>
          <a:prstGeom prst="rect">
            <a:avLst/>
          </a:prstGeom>
          <a:ln w="44280">
            <a:solidFill>
              <a:srgbClr val="ffffff"/>
            </a:solidFill>
            <a:miter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Рисунок 1" descr="728773.jpg"/>
          <p:cNvPicPr/>
          <p:nvPr/>
        </p:nvPicPr>
        <p:blipFill>
          <a:blip r:embed="rId1"/>
          <a:stretch/>
        </p:blipFill>
        <p:spPr>
          <a:xfrm>
            <a:off x="357120" y="285840"/>
            <a:ext cx="4714920" cy="3143160"/>
          </a:xfrm>
          <a:prstGeom prst="rect">
            <a:avLst/>
          </a:prstGeom>
          <a:ln w="44280">
            <a:solidFill>
              <a:srgbClr val="ffffff"/>
            </a:solidFill>
            <a:miter/>
          </a:ln>
        </p:spPr>
      </p:pic>
      <p:pic>
        <p:nvPicPr>
          <p:cNvPr id="523" name="Рисунок 2" descr="Beslan_school_no_1_victim_photos.jpg"/>
          <p:cNvPicPr/>
          <p:nvPr/>
        </p:nvPicPr>
        <p:blipFill>
          <a:blip r:embed="rId2"/>
          <a:stretch/>
        </p:blipFill>
        <p:spPr>
          <a:xfrm>
            <a:off x="4429080" y="3571920"/>
            <a:ext cx="4071960" cy="3054240"/>
          </a:xfrm>
          <a:prstGeom prst="rect">
            <a:avLst/>
          </a:prstGeom>
          <a:ln w="41400">
            <a:solidFill>
              <a:srgbClr val="ffffff"/>
            </a:solidFill>
            <a:miter/>
          </a:ln>
        </p:spPr>
      </p:pic>
      <p:pic>
        <p:nvPicPr>
          <p:cNvPr id="524" name="Рисунок 3" descr="full_1_Uberech.jpg"/>
          <p:cNvPicPr/>
          <p:nvPr/>
        </p:nvPicPr>
        <p:blipFill>
          <a:blip r:embed="rId3"/>
          <a:stretch/>
        </p:blipFill>
        <p:spPr>
          <a:xfrm>
            <a:off x="5429160" y="357120"/>
            <a:ext cx="3478320" cy="2805120"/>
          </a:xfrm>
          <a:prstGeom prst="rect">
            <a:avLst/>
          </a:prstGeom>
          <a:ln w="44280">
            <a:solidFill>
              <a:srgbClr val="ffffff"/>
            </a:solidFill>
            <a:miter/>
          </a:ln>
        </p:spPr>
      </p:pic>
      <p:pic>
        <p:nvPicPr>
          <p:cNvPr id="525" name="Рисунок 4" descr="29795480E73C2645D37150B8FD6D.jpg"/>
          <p:cNvPicPr/>
          <p:nvPr/>
        </p:nvPicPr>
        <p:blipFill>
          <a:blip r:embed="rId4"/>
          <a:stretch/>
        </p:blipFill>
        <p:spPr>
          <a:xfrm>
            <a:off x="642960" y="3643200"/>
            <a:ext cx="2867040" cy="2811600"/>
          </a:xfrm>
          <a:prstGeom prst="rect">
            <a:avLst/>
          </a:prstGeom>
          <a:ln w="47520">
            <a:solidFill>
              <a:srgbClr val="ffffff"/>
            </a:solidFill>
            <a:miter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84232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Выборы депутатов Государственной Думы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Российской Федерации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7 декабря 2003 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250920" y="1203480"/>
          <a:ext cx="8893080" cy="6035400"/>
        </p:xfrm>
        <a:graphic>
          <a:graphicData uri="http://schemas.openxmlformats.org/drawingml/2006/table">
            <a:tbl>
              <a:tblPr/>
              <a:tblGrid>
                <a:gridCol w="793800"/>
                <a:gridCol w="3652560"/>
                <a:gridCol w="2224080"/>
                <a:gridCol w="22226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Партии, избирательные объединения, блок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Число голос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%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"Политическая партия "Единая Россия"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2277629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37.5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"Коммунистическая партия Российской Федерации (КПРФ)"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76478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2.6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"ЛДПР"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6944322 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1.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"Родина" (народно-патриотический союз)"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5470429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9.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Против всех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2851958 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4.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8" name="Object 4"/>
          <p:cNvGraphicFramePr/>
          <p:nvPr/>
        </p:nvGraphicFramePr>
        <p:xfrm>
          <a:off x="395280" y="1219320"/>
          <a:ext cx="835344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219320"/>
                    <a:ext cx="835344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AutoShape 7"/>
          <p:cNvSpPr/>
          <p:nvPr/>
        </p:nvSpPr>
        <p:spPr>
          <a:xfrm>
            <a:off x="250920" y="115920"/>
            <a:ext cx="8893080" cy="1081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ыборы в ГД в декабре 2003 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Rectangle 8"/>
          <p:cNvSpPr/>
          <p:nvPr/>
        </p:nvSpPr>
        <p:spPr>
          <a:xfrm>
            <a:off x="324000" y="5157720"/>
            <a:ext cx="8640720" cy="15112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9 партий так и не смогли попасть в ГД. Среди н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 Яблоко», СПС, Партия пенсионеров, Парт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жизни и д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Выборы 2003 – 2004  гг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33" name="Picture 10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276640"/>
            <a:ext cx="2233440" cy="1674720"/>
          </a:xfrm>
          <a:prstGeom prst="rect">
            <a:avLst/>
          </a:prstGeom>
          <a:ln w="0">
            <a:noFill/>
          </a:ln>
        </p:spPr>
      </p:pic>
      <p:sp>
        <p:nvSpPr>
          <p:cNvPr id="534" name="Line 11"/>
          <p:cNvSpPr/>
          <p:nvPr/>
        </p:nvSpPr>
        <p:spPr>
          <a:xfrm flipH="1">
            <a:off x="1476360" y="1125360"/>
            <a:ext cx="1511280" cy="1151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Line 12"/>
          <p:cNvSpPr/>
          <p:nvPr/>
        </p:nvSpPr>
        <p:spPr>
          <a:xfrm>
            <a:off x="3564000" y="1125360"/>
            <a:ext cx="287280" cy="1151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Line 13"/>
          <p:cNvSpPr/>
          <p:nvPr/>
        </p:nvSpPr>
        <p:spPr>
          <a:xfrm>
            <a:off x="5364000" y="1125360"/>
            <a:ext cx="0" cy="1079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Line 14"/>
          <p:cNvSpPr/>
          <p:nvPr/>
        </p:nvSpPr>
        <p:spPr>
          <a:xfrm>
            <a:off x="6516720" y="1197000"/>
            <a:ext cx="1224000" cy="93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8" name="Picture 15" descr=" 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16360" y="2247840"/>
            <a:ext cx="1655640" cy="16034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6" descr=" 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88000" y="2209680"/>
            <a:ext cx="1600200" cy="16509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9" descr=" 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4000" y="4437000"/>
            <a:ext cx="1672920" cy="22320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0" descr=" 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484360" y="4508640"/>
            <a:ext cx="2087640" cy="20872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1" descr=" 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788000" y="4508640"/>
            <a:ext cx="1596960" cy="23493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3" descr=" 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659640" y="2205000"/>
            <a:ext cx="2160360" cy="16542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5" descr=" 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732720" y="443700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545" name="WordArt 26"/>
          <p:cNvSpPr txBox="1"/>
          <p:nvPr/>
        </p:nvSpPr>
        <p:spPr>
          <a:xfrm>
            <a:off x="250920" y="6308640"/>
            <a:ext cx="1800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Б. Грызл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46" name="WordArt 27"/>
          <p:cNvSpPr txBox="1"/>
          <p:nvPr/>
        </p:nvSpPr>
        <p:spPr>
          <a:xfrm>
            <a:off x="2556000" y="6308640"/>
            <a:ext cx="1800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Г. Зюган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47" name="WordArt 28"/>
          <p:cNvSpPr txBox="1"/>
          <p:nvPr/>
        </p:nvSpPr>
        <p:spPr>
          <a:xfrm>
            <a:off x="4572000" y="6381720"/>
            <a:ext cx="2016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. Жириновск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48" name="WordArt 29"/>
          <p:cNvSpPr txBox="1"/>
          <p:nvPr/>
        </p:nvSpPr>
        <p:spPr>
          <a:xfrm>
            <a:off x="6877080" y="6308640"/>
            <a:ext cx="20876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. Рогози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49" name="WordArt 30"/>
          <p:cNvSpPr txBox="1"/>
          <p:nvPr/>
        </p:nvSpPr>
        <p:spPr>
          <a:xfrm>
            <a:off x="539640" y="4005360"/>
            <a:ext cx="1511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37,75%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50" name="WordArt 31"/>
          <p:cNvSpPr txBox="1"/>
          <p:nvPr/>
        </p:nvSpPr>
        <p:spPr>
          <a:xfrm>
            <a:off x="2484360" y="4005360"/>
            <a:ext cx="1943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12,61%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51" name="WordArt 32"/>
          <p:cNvSpPr txBox="1"/>
          <p:nvPr/>
        </p:nvSpPr>
        <p:spPr>
          <a:xfrm>
            <a:off x="4788000" y="4005360"/>
            <a:ext cx="1655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11,45%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52" name="WordArt 33"/>
          <p:cNvSpPr txBox="1"/>
          <p:nvPr/>
        </p:nvSpPr>
        <p:spPr>
          <a:xfrm>
            <a:off x="6732720" y="4005360"/>
            <a:ext cx="19429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9,02%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3924000" y="1483920"/>
            <a:ext cx="504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одился 7  октября 1952 го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кончил юридический факультет Ленинградского государственного университ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 1975 по 1991 г. – служил в органах государственной безопас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991 по 1996 г. – мэр Санкт – Петербур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1998 году – назначен директором ФС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6 марта 2000 года – становится вторым Президентом Росс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2004 году избирается Президентом на второй ср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7" name="Рисунок 2" descr="putin0001.jpg"/>
          <p:cNvPicPr/>
          <p:nvPr/>
        </p:nvPicPr>
        <p:blipFill>
          <a:blip r:embed="rId1"/>
          <a:stretch/>
        </p:blipFill>
        <p:spPr>
          <a:xfrm>
            <a:off x="395280" y="1628640"/>
            <a:ext cx="2995560" cy="40388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398" name="AutoShape 13"/>
          <p:cNvSpPr/>
          <p:nvPr/>
        </p:nvSpPr>
        <p:spPr>
          <a:xfrm>
            <a:off x="250920" y="5661000"/>
            <a:ext cx="3313080" cy="6494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.В. Пут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57480" y="284040"/>
            <a:ext cx="8429040" cy="103140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Президент России – В.В. Путин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57480" y="284040"/>
            <a:ext cx="8429040" cy="1031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Выборы 2003 – 2004 гг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301320" y="1599840"/>
            <a:ext cx="44146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24 февраля 2004 г. Президент отправил в отставку правительство Касьянова. Председателем правительства был назначен М.Е. Фрад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5" name="Picture 8" descr="1187859142_0203"/>
          <p:cNvPicPr/>
          <p:nvPr/>
        </p:nvPicPr>
        <p:blipFill>
          <a:blip r:embed="rId1"/>
          <a:stretch/>
        </p:blipFill>
        <p:spPr>
          <a:xfrm>
            <a:off x="5580000" y="3933720"/>
            <a:ext cx="3240000" cy="25923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0" descr="Касьянов"/>
          <p:cNvPicPr/>
          <p:nvPr/>
        </p:nvPicPr>
        <p:blipFill>
          <a:blip r:embed="rId2"/>
          <a:stretch/>
        </p:blipFill>
        <p:spPr>
          <a:xfrm>
            <a:off x="4788000" y="1557360"/>
            <a:ext cx="2663640" cy="1994040"/>
          </a:xfrm>
          <a:prstGeom prst="rect">
            <a:avLst/>
          </a:prstGeom>
          <a:ln w="0">
            <a:noFill/>
          </a:ln>
        </p:spPr>
      </p:pic>
      <p:sp>
        <p:nvSpPr>
          <p:cNvPr id="557" name="WordArt 11"/>
          <p:cNvSpPr txBox="1"/>
          <p:nvPr/>
        </p:nvSpPr>
        <p:spPr>
          <a:xfrm>
            <a:off x="4932360" y="3284640"/>
            <a:ext cx="280836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. Касьянов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8" name="WordArt 12"/>
          <p:cNvSpPr txBox="1"/>
          <p:nvPr/>
        </p:nvSpPr>
        <p:spPr>
          <a:xfrm>
            <a:off x="5580000" y="6165720"/>
            <a:ext cx="3313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. Фрадков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57480" y="284040"/>
            <a:ext cx="8429040" cy="1031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Президентские выборы    2008 г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560" name="Object 5"/>
          <p:cNvGraphicFramePr/>
          <p:nvPr/>
        </p:nvGraphicFramePr>
        <p:xfrm>
          <a:off x="539640" y="1413000"/>
          <a:ext cx="8064720" cy="477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13000"/>
                    <a:ext cx="8064720" cy="47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2 марта 2008 год – президентские выборы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63" name="Picture 4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313000"/>
            <a:ext cx="1623960" cy="22320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5" descr=" "/>
          <p:cNvPicPr/>
          <p:nvPr/>
        </p:nvPicPr>
        <p:blipFill>
          <a:blip r:embed="rId3"/>
          <a:stretch/>
        </p:blipFill>
        <p:spPr>
          <a:xfrm>
            <a:off x="2195640" y="234792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6" descr=" "/>
          <p:cNvPicPr/>
          <p:nvPr/>
        </p:nvPicPr>
        <p:blipFill>
          <a:blip r:embed="rId4"/>
          <a:stretch/>
        </p:blipFill>
        <p:spPr>
          <a:xfrm>
            <a:off x="4572000" y="2347920"/>
            <a:ext cx="1468440" cy="216072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7" descr=" "/>
          <p:cNvPicPr/>
          <p:nvPr/>
        </p:nvPicPr>
        <p:blipFill>
          <a:blip r:embed="rId5"/>
          <a:stretch/>
        </p:blipFill>
        <p:spPr>
          <a:xfrm>
            <a:off x="6372360" y="24559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567" name="WordArt 8"/>
          <p:cNvSpPr txBox="1"/>
          <p:nvPr/>
        </p:nvSpPr>
        <p:spPr>
          <a:xfrm>
            <a:off x="250920" y="4797360"/>
            <a:ext cx="180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.А. Медведе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68" name="WordArt 9"/>
          <p:cNvSpPr txBox="1"/>
          <p:nvPr/>
        </p:nvSpPr>
        <p:spPr>
          <a:xfrm>
            <a:off x="2268360" y="4869000"/>
            <a:ext cx="1944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Г.Зюган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69" name="WordArt 10"/>
          <p:cNvSpPr txBox="1"/>
          <p:nvPr/>
        </p:nvSpPr>
        <p:spPr>
          <a:xfrm>
            <a:off x="4356000" y="5013360"/>
            <a:ext cx="244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. Жириновск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70" name="WordArt 11"/>
          <p:cNvSpPr txBox="1"/>
          <p:nvPr/>
        </p:nvSpPr>
        <p:spPr>
          <a:xfrm>
            <a:off x="7020000" y="5084640"/>
            <a:ext cx="1944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А. Богдан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71" name="WordArt 12"/>
          <p:cNvSpPr txBox="1"/>
          <p:nvPr/>
        </p:nvSpPr>
        <p:spPr>
          <a:xfrm>
            <a:off x="324000" y="5805360"/>
            <a:ext cx="1655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70,28%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72" name="WordArt 13"/>
          <p:cNvSpPr txBox="1"/>
          <p:nvPr/>
        </p:nvSpPr>
        <p:spPr>
          <a:xfrm>
            <a:off x="2556000" y="5950080"/>
            <a:ext cx="1361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7,74%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73" name="WordArt 14"/>
          <p:cNvSpPr txBox="1"/>
          <p:nvPr/>
        </p:nvSpPr>
        <p:spPr>
          <a:xfrm>
            <a:off x="4859280" y="5950080"/>
            <a:ext cx="136224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9,34%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74" name="WordArt 15"/>
          <p:cNvSpPr txBox="1"/>
          <p:nvPr/>
        </p:nvSpPr>
        <p:spPr>
          <a:xfrm>
            <a:off x="7093080" y="5950080"/>
            <a:ext cx="1361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,29%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75" name="Line 16"/>
          <p:cNvSpPr/>
          <p:nvPr/>
        </p:nvSpPr>
        <p:spPr>
          <a:xfrm flipH="1">
            <a:off x="1187280" y="1413000"/>
            <a:ext cx="2448000" cy="863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Line 17"/>
          <p:cNvSpPr/>
          <p:nvPr/>
        </p:nvSpPr>
        <p:spPr>
          <a:xfrm>
            <a:off x="3708360" y="1413000"/>
            <a:ext cx="0" cy="863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Line 18"/>
          <p:cNvSpPr/>
          <p:nvPr/>
        </p:nvSpPr>
        <p:spPr>
          <a:xfrm>
            <a:off x="3780000" y="1413000"/>
            <a:ext cx="4464000" cy="1008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Line 19"/>
          <p:cNvSpPr/>
          <p:nvPr/>
        </p:nvSpPr>
        <p:spPr>
          <a:xfrm>
            <a:off x="3780000" y="1413000"/>
            <a:ext cx="1439640" cy="936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Line 20"/>
          <p:cNvSpPr/>
          <p:nvPr/>
        </p:nvSpPr>
        <p:spPr>
          <a:xfrm>
            <a:off x="1187280" y="4581360"/>
            <a:ext cx="0" cy="36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Line 21"/>
          <p:cNvSpPr/>
          <p:nvPr/>
        </p:nvSpPr>
        <p:spPr>
          <a:xfrm>
            <a:off x="3419640" y="4508640"/>
            <a:ext cx="0" cy="433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Line 22"/>
          <p:cNvSpPr/>
          <p:nvPr/>
        </p:nvSpPr>
        <p:spPr>
          <a:xfrm>
            <a:off x="5508720" y="4508640"/>
            <a:ext cx="0" cy="649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Line 23"/>
          <p:cNvSpPr/>
          <p:nvPr/>
        </p:nvSpPr>
        <p:spPr>
          <a:xfrm>
            <a:off x="7812000" y="4437000"/>
            <a:ext cx="0" cy="72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357480" y="284040"/>
            <a:ext cx="8429040" cy="1031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Президентские выборы    2008 г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2447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беда на выборах               « Единой России» позволила выдвинуть вместе с другими партиями единого кандидата на пост Президента России – Д.А. Медведева, премьер – министром становится В.В. Пут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5" name="Picture 8" descr="m55709"/>
          <p:cNvPicPr/>
          <p:nvPr/>
        </p:nvPicPr>
        <p:blipFill>
          <a:blip r:embed="rId1"/>
          <a:stretch/>
        </p:blipFill>
        <p:spPr>
          <a:xfrm>
            <a:off x="179280" y="1700280"/>
            <a:ext cx="3961080" cy="297000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9"/>
          <p:cNvSpPr/>
          <p:nvPr/>
        </p:nvSpPr>
        <p:spPr>
          <a:xfrm>
            <a:off x="250920" y="4581360"/>
            <a:ext cx="3960720" cy="7923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.А. Медведе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Итоги экономических реформ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ст доходов государ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ительство рассчиталось с международными кредит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шило ряд социальных зада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юджет 2002 года впервые превысил расходы на образование, чем на воен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величился валютные резерв стра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Подведём итог уро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просы на стр.38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воды на стр. 373-37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готовиться к итоговому тестирован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8" descr="Картинка 1 из 715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557360"/>
            <a:ext cx="4321080" cy="4165560"/>
          </a:xfrm>
          <a:prstGeom prst="rect">
            <a:avLst/>
          </a:prstGeom>
          <a:ln w="0">
            <a:noFill/>
          </a:ln>
        </p:spPr>
      </p:pic>
      <p:sp>
        <p:nvSpPr>
          <p:cNvPr id="401" name="AutoShape 9"/>
          <p:cNvSpPr/>
          <p:nvPr/>
        </p:nvSpPr>
        <p:spPr>
          <a:xfrm>
            <a:off x="0" y="4869000"/>
            <a:ext cx="4356000" cy="15843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наугурация  В. Пут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7 мая 2000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AutoShape 11"/>
          <p:cNvSpPr/>
          <p:nvPr/>
        </p:nvSpPr>
        <p:spPr>
          <a:xfrm>
            <a:off x="179280" y="189000"/>
            <a:ext cx="8785440" cy="1224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Владимир Владимирович Пути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Picture 13" descr="Картинка 2 из 715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1557360"/>
            <a:ext cx="4248000" cy="24066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5" descr="Картинка 27 из 715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0" y="4076640"/>
            <a:ext cx="42480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57480" y="284040"/>
            <a:ext cx="8429040" cy="103140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Президент России – В.В. Путин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066920" y="1599840"/>
            <a:ext cx="4825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Главой правительства Российской Федерации был утверждён М. Касьянов – первый вице – премьер в правительстве Пути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7" name="Рисунок 2" descr="1563.jpg"/>
          <p:cNvPicPr/>
          <p:nvPr/>
        </p:nvPicPr>
        <p:blipFill>
          <a:blip r:embed="rId1"/>
          <a:stretch/>
        </p:blipFill>
        <p:spPr>
          <a:xfrm>
            <a:off x="324000" y="1519200"/>
            <a:ext cx="3395520" cy="50054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408" name="AutoShape 8"/>
          <p:cNvSpPr/>
          <p:nvPr/>
        </p:nvSpPr>
        <p:spPr>
          <a:xfrm>
            <a:off x="0" y="5273640"/>
            <a:ext cx="4356000" cy="15843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.Касьян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емьер-министр РФ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2000-2004 г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811080" y="244440"/>
            <a:ext cx="7889400" cy="103140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Президент России – В.В. Путин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10" name="Object 8"/>
          <p:cNvGraphicFramePr/>
          <p:nvPr/>
        </p:nvGraphicFramePr>
        <p:xfrm>
          <a:off x="250920" y="1387440"/>
          <a:ext cx="889308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87440"/>
                    <a:ext cx="889308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395280" y="1125360"/>
          <a:ext cx="8748720" cy="5480280"/>
        </p:xfrm>
        <a:graphic>
          <a:graphicData uri="http://schemas.openxmlformats.org/drawingml/2006/table">
            <a:tbl>
              <a:tblPr/>
              <a:tblGrid>
                <a:gridCol w="547560"/>
                <a:gridCol w="3827520"/>
                <a:gridCol w="2187720"/>
                <a:gridCol w="2185920"/>
              </a:tblGrid>
              <a:tr h="673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кандида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Число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голосов "За"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%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Путин Владимир Владимирович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39740434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53, 44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2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Зюганов Геннадий Андреевич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219284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29,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Явлинский Григорий Алексеевич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43514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5,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Жириновский Владимир Вольфович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20265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2,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Тулеев Аман-Гельды Молдагазиевич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22173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2,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Памфилова Элла Александровн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7589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Говорухин Станислав Сергеевич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3287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0,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8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Скуратов Юрий Ильич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3192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0,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Подберезкин Алексей Иванович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9817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0,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Джабраилов Умар Алиевич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784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0,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против всех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4146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3" name="AutoShape 71"/>
          <p:cNvSpPr/>
          <p:nvPr/>
        </p:nvSpPr>
        <p:spPr>
          <a:xfrm>
            <a:off x="301680" y="0"/>
            <a:ext cx="854064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Выборы Президента РФ 26 марта 2000 г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067280" y="1600200"/>
            <a:ext cx="47750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утин показал себя сторонником сильной государственной власти, поэтому первые его шаги были направлены на укрепление авторитета и роли государства в жизни общества, наведение должного поряд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57480" y="284040"/>
            <a:ext cx="8429040" cy="103140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Президент России – В.В. Путин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6" name="Picture 11" descr="Картинка 40 из 1796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628640"/>
            <a:ext cx="33544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стя</dc:creator>
  <dc:description/>
  <dc:language>en-US</dc:language>
  <cp:lastModifiedBy>Настя</cp:lastModifiedBy>
  <dcterms:modified xsi:type="dcterms:W3CDTF">2018-02-11T10:09:02Z</dcterms:modified>
  <cp:revision>17</cp:revision>
  <dc:subject/>
  <dc:title>Древний Египет</dc:title>
</cp:coreProperties>
</file>